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E7AB4FBF-6B2C-4C3F-81B2-AB6D5AACB389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6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85G Hero roadmap scenario </a:t>
            </a:r>
            <a:br>
              <a:rPr sz="2400"/>
            </a:br>
            <a:r>
              <a:rPr b="1" lang="en-GB" sz="1600" spc="-1" strike="noStrike">
                <a:solidFill>
                  <a:srgbClr val="000000"/>
                </a:solidFill>
                <a:latin typeface="Siemens Sans"/>
              </a:rPr>
              <a:t>Status November 26th, 04 – (19 products incl. 4 UMTS) –</a:t>
            </a:r>
            <a:endParaRPr b="1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7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99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0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3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2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1880" y="1650960"/>
            <a:ext cx="4226040" cy="418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7200" y="5572080"/>
            <a:ext cx="1228680" cy="304560"/>
            <a:chOff x="187200" y="5572080"/>
            <a:chExt cx="1228680" cy="304560"/>
          </a:xfrm>
        </p:grpSpPr>
        <p:sp>
          <p:nvSpPr>
            <p:cNvPr id="137" name=""/>
            <p:cNvSpPr/>
            <p:nvPr/>
          </p:nvSpPr>
          <p:spPr>
            <a:xfrm>
              <a:off x="718920" y="557208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7200" y="55846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40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41280" y="4424400"/>
            <a:ext cx="223920" cy="216000"/>
          </a:xfrm>
          <a:prstGeom prst="flowChartSor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4424400"/>
            <a:ext cx="1498320" cy="608760"/>
            <a:chOff x="826920" y="4424400"/>
            <a:chExt cx="1498320" cy="608760"/>
          </a:xfrm>
        </p:grpSpPr>
        <p:sp>
          <p:nvSpPr>
            <p:cNvPr id="150" name=""/>
            <p:cNvSpPr/>
            <p:nvPr/>
          </p:nvSpPr>
          <p:spPr>
            <a:xfrm>
              <a:off x="1503000" y="4424400"/>
              <a:ext cx="8222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HN HW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TBD) (PP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6920" y="4437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53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64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60520" y="5524560"/>
            <a:ext cx="107640" cy="371520"/>
            <a:chOff x="560520" y="5524560"/>
            <a:chExt cx="107640" cy="371520"/>
          </a:xfrm>
        </p:grpSpPr>
        <p:sp>
          <p:nvSpPr>
            <p:cNvPr id="175" name=""/>
            <p:cNvSpPr/>
            <p:nvPr/>
          </p:nvSpPr>
          <p:spPr>
            <a:xfrm>
              <a:off x="560520" y="5524560"/>
              <a:ext cx="107640" cy="371520"/>
            </a:xfrm>
            <a:custGeom>
              <a:avLst/>
              <a:gdLst>
                <a:gd name="textAreaLeft" fmla="*/ 5040 w 107640"/>
                <a:gd name="textAreaRight" fmla="*/ 102600 w 1076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4376">
                  <a:moveTo>
                    <a:pt x="3600" y="0"/>
                  </a:moveTo>
                  <a:arcTo wR="3600" hR="3600" stAng="16200000" swAng="-5400000"/>
                  <a:lnTo>
                    <a:pt x="0" y="70776"/>
                  </a:lnTo>
                  <a:arcTo wR="3600" hR="3600" stAng="10800000" swAng="-5400000"/>
                  <a:lnTo>
                    <a:pt x="18000" y="743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520" y="55987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0520" y="57103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0520" y="574740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0520" y="578448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0520" y="58219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0520" y="585900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116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416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752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8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4920" y="2994120"/>
            <a:ext cx="1960200" cy="363240"/>
            <a:chOff x="844920" y="2994120"/>
            <a:chExt cx="1960200" cy="363240"/>
          </a:xfrm>
        </p:grpSpPr>
        <p:grpSp>
          <p:nvGrpSpPr>
            <p:cNvPr id="198" name=""/>
            <p:cNvGrpSpPr/>
            <p:nvPr/>
          </p:nvGrpSpPr>
          <p:grpSpPr>
            <a:xfrm>
              <a:off x="844920" y="2994120"/>
              <a:ext cx="1960200" cy="304560"/>
              <a:chOff x="844920" y="2994120"/>
              <a:chExt cx="1960200" cy="304560"/>
            </a:xfrm>
          </p:grpSpPr>
          <p:sp>
            <p:nvSpPr>
              <p:cNvPr id="199" name=""/>
              <p:cNvSpPr/>
              <p:nvPr/>
            </p:nvSpPr>
            <p:spPr>
              <a:xfrm>
                <a:off x="1517760" y="2994120"/>
                <a:ext cx="12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Electra MM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TBD) (PPM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4920" y="30592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11/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217520" y="3008160"/>
              <a:ext cx="187560" cy="349200"/>
              <a:chOff x="1217520" y="3008160"/>
              <a:chExt cx="187560" cy="349200"/>
            </a:xfrm>
          </p:grpSpPr>
          <p:sp>
            <p:nvSpPr>
              <p:cNvPr id="202" name=""/>
              <p:cNvSpPr/>
              <p:nvPr/>
            </p:nvSpPr>
            <p:spPr>
              <a:xfrm>
                <a:off x="1292400" y="300816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17520" y="321624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0780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1827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9440" y="323532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55680" y="327024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39840" y="330516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250640" y="323532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20760" y="3333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278000" y="323676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306080" y="323532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39640" y="3425760"/>
            <a:ext cx="1436760" cy="936720"/>
            <a:chOff x="539640" y="3425760"/>
            <a:chExt cx="1436760" cy="936720"/>
          </a:xfrm>
        </p:grpSpPr>
        <p:sp>
          <p:nvSpPr>
            <p:cNvPr id="214" name=""/>
            <p:cNvSpPr/>
            <p:nvPr/>
          </p:nvSpPr>
          <p:spPr>
            <a:xfrm>
              <a:off x="539640" y="342576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14160" y="3969000"/>
              <a:ext cx="1352880" cy="139680"/>
              <a:chOff x="614160" y="3969000"/>
              <a:chExt cx="1352880" cy="139680"/>
            </a:xfrm>
          </p:grpSpPr>
          <p:sp>
            <p:nvSpPr>
              <p:cNvPr id="216" name=""/>
              <p:cNvSpPr/>
              <p:nvPr/>
            </p:nvSpPr>
            <p:spPr>
              <a:xfrm>
                <a:off x="614160" y="396900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0240" y="398664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79240" y="4132440"/>
              <a:ext cx="1139040" cy="193680"/>
              <a:chOff x="579240" y="4132440"/>
              <a:chExt cx="1139040" cy="193680"/>
            </a:xfrm>
          </p:grpSpPr>
          <p:sp>
            <p:nvSpPr>
              <p:cNvPr id="219" name=""/>
              <p:cNvSpPr/>
              <p:nvPr/>
            </p:nvSpPr>
            <p:spPr>
              <a:xfrm>
                <a:off x="579240" y="413244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7240" y="417204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14160" y="3797280"/>
              <a:ext cx="846000" cy="152640"/>
              <a:chOff x="614160" y="3797280"/>
              <a:chExt cx="846000" cy="152640"/>
            </a:xfrm>
          </p:grpSpPr>
          <p:sp>
            <p:nvSpPr>
              <p:cNvPr id="222" name=""/>
              <p:cNvSpPr/>
              <p:nvPr/>
            </p:nvSpPr>
            <p:spPr>
              <a:xfrm>
                <a:off x="614160" y="380520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4440" y="379728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69720" y="3467160"/>
              <a:ext cx="280440" cy="291960"/>
              <a:chOff x="1269720" y="3467160"/>
              <a:chExt cx="280440" cy="2919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269720" y="3467160"/>
                <a:ext cx="78120" cy="291960"/>
                <a:chOff x="1269720" y="3467160"/>
                <a:chExt cx="78120" cy="291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69720" y="346716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69720" y="35254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69720" y="36133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69720" y="36421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269720" y="36716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269720" y="37008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269720" y="37299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2840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860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8916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416960" y="356220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560240" y="3467160"/>
              <a:ext cx="375840" cy="291960"/>
              <a:chOff x="1560240" y="3467160"/>
              <a:chExt cx="375840" cy="2919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1560240" y="3467160"/>
                <a:ext cx="77040" cy="291960"/>
                <a:chOff x="1560240" y="3467160"/>
                <a:chExt cx="77040" cy="2919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560240" y="346716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60240" y="35254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60240" y="36133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60240" y="36421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560240" y="36716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60240" y="37008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560240" y="37299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1784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9876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7932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1691640" y="356220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87520" y="34830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8160" y="58816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32320" y="2387520"/>
            <a:ext cx="1959840" cy="426240"/>
            <a:chOff x="2632320" y="2387520"/>
            <a:chExt cx="1959840" cy="426240"/>
          </a:xfrm>
        </p:grpSpPr>
        <p:sp>
          <p:nvSpPr>
            <p:cNvPr id="254" name=""/>
            <p:cNvSpPr/>
            <p:nvPr/>
          </p:nvSpPr>
          <p:spPr>
            <a:xfrm>
              <a:off x="3305160" y="2387520"/>
              <a:ext cx="12870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eac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Elect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High-End imaging (3-4 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32320" y="25178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021120" y="2421000"/>
            <a:ext cx="186840" cy="349200"/>
            <a:chOff x="3021120" y="2421000"/>
            <a:chExt cx="186840" cy="349200"/>
          </a:xfrm>
        </p:grpSpPr>
        <p:sp>
          <p:nvSpPr>
            <p:cNvPr id="257" name=""/>
            <p:cNvSpPr/>
            <p:nvPr/>
          </p:nvSpPr>
          <p:spPr>
            <a:xfrm>
              <a:off x="3095640" y="24210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1120" y="26290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95640" y="24908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95640" y="25956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2680" y="26481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58920" y="26830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3080" y="27180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054240" y="26481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4000" y="27464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080880" y="26496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109680" y="26481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057840" y="2852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451640" y="1484280"/>
            <a:ext cx="1627200" cy="551520"/>
            <a:chOff x="7451640" y="1484280"/>
            <a:chExt cx="1627200" cy="551520"/>
          </a:xfrm>
        </p:grpSpPr>
        <p:grpSp>
          <p:nvGrpSpPr>
            <p:cNvPr id="270" name=""/>
            <p:cNvGrpSpPr/>
            <p:nvPr/>
          </p:nvGrpSpPr>
          <p:grpSpPr>
            <a:xfrm>
              <a:off x="7451640" y="1484280"/>
              <a:ext cx="1627200" cy="551520"/>
              <a:chOff x="7451640" y="1484280"/>
              <a:chExt cx="1627200" cy="551520"/>
            </a:xfrm>
          </p:grpSpPr>
          <p:sp>
            <p:nvSpPr>
              <p:cNvPr id="271" name=""/>
              <p:cNvSpPr/>
              <p:nvPr/>
            </p:nvSpPr>
            <p:spPr>
              <a:xfrm>
                <a:off x="8744400" y="1714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51640" y="1609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502480" y="1484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8402400" y="1623960"/>
                <a:ext cx="345960" cy="371520"/>
                <a:chOff x="8402400" y="1623960"/>
                <a:chExt cx="345960" cy="3715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402400" y="1741680"/>
                  <a:ext cx="345960" cy="9684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8507160" y="1623960"/>
                  <a:ext cx="109440" cy="371520"/>
                  <a:chOff x="8507160" y="1623960"/>
                  <a:chExt cx="109440" cy="3715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8507160" y="1623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507160" y="1698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507160" y="1809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507160" y="1846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507160" y="1883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507160" y="1921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07160" y="1958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58924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56188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53452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7" name=""/>
            <p:cNvSpPr/>
            <p:nvPr/>
          </p:nvSpPr>
          <p:spPr>
            <a:xfrm>
              <a:off x="8687160" y="1887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795920" y="2276640"/>
            <a:ext cx="2347920" cy="426240"/>
            <a:chOff x="4795920" y="2276640"/>
            <a:chExt cx="2347920" cy="426240"/>
          </a:xfrm>
        </p:grpSpPr>
        <p:sp>
          <p:nvSpPr>
            <p:cNvPr id="289" name=""/>
            <p:cNvSpPr/>
            <p:nvPr/>
          </p:nvSpPr>
          <p:spPr>
            <a:xfrm>
              <a:off x="6419880" y="232740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95920" y="227664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65760" y="234000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6080" y="2511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727520" y="2730600"/>
            <a:ext cx="2428920" cy="551520"/>
            <a:chOff x="4727520" y="2730600"/>
            <a:chExt cx="2428920" cy="551520"/>
          </a:xfrm>
        </p:grpSpPr>
        <p:sp>
          <p:nvSpPr>
            <p:cNvPr id="294" name=""/>
            <p:cNvSpPr/>
            <p:nvPr/>
          </p:nvSpPr>
          <p:spPr>
            <a:xfrm>
              <a:off x="6432480" y="2855880"/>
              <a:ext cx="223920" cy="21564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7520" y="285588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78720" y="279216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0000" y="2730600"/>
              <a:ext cx="122400" cy="11088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90000" y="3138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08200" y="5013360"/>
            <a:ext cx="2286000" cy="747360"/>
            <a:chOff x="2608200" y="5013360"/>
            <a:chExt cx="2286000" cy="747360"/>
          </a:xfrm>
        </p:grpSpPr>
        <p:sp>
          <p:nvSpPr>
            <p:cNvPr id="300" name=""/>
            <p:cNvSpPr/>
            <p:nvPr/>
          </p:nvSpPr>
          <p:spPr>
            <a:xfrm>
              <a:off x="4076640" y="5373720"/>
              <a:ext cx="51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98680" y="509112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=Adonis DTC 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/ without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08200" y="5211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62440" y="50133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19400" y="501336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890800" y="5164200"/>
              <a:ext cx="186840" cy="349200"/>
              <a:chOff x="2890800" y="5164200"/>
              <a:chExt cx="186840" cy="349200"/>
            </a:xfrm>
          </p:grpSpPr>
          <p:sp>
            <p:nvSpPr>
              <p:cNvPr id="306" name=""/>
              <p:cNvSpPr/>
              <p:nvPr/>
            </p:nvSpPr>
            <p:spPr>
              <a:xfrm>
                <a:off x="2965320" y="516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90800" y="537228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65320" y="523404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65320" y="533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360" y="53913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28600" y="54262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12760" y="54612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2923920" y="539136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93680" y="548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950560" y="539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979360" y="539136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059280" y="5164200"/>
              <a:ext cx="186840" cy="349200"/>
              <a:chOff x="3059280" y="5164200"/>
              <a:chExt cx="186840" cy="349200"/>
            </a:xfrm>
          </p:grpSpPr>
          <p:sp>
            <p:nvSpPr>
              <p:cNvPr id="318" name=""/>
              <p:cNvSpPr/>
              <p:nvPr/>
            </p:nvSpPr>
            <p:spPr>
              <a:xfrm>
                <a:off x="3133800" y="516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9280" y="537228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133800" y="523404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33800" y="533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20840" y="53913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7080" y="54262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81240" y="54612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092400" y="539136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62160" y="548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3119040" y="539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3147840" y="539136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927880" y="5586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37480" y="4913280"/>
            <a:ext cx="1510920" cy="660600"/>
            <a:chOff x="5037480" y="4913280"/>
            <a:chExt cx="1510920" cy="660600"/>
          </a:xfrm>
        </p:grpSpPr>
        <p:sp>
          <p:nvSpPr>
            <p:cNvPr id="331" name=""/>
            <p:cNvSpPr/>
            <p:nvPr/>
          </p:nvSpPr>
          <p:spPr>
            <a:xfrm>
              <a:off x="5640480" y="5025960"/>
              <a:ext cx="907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Bramb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Herme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asic im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37480" y="50864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438880" y="4970520"/>
              <a:ext cx="109440" cy="371520"/>
              <a:chOff x="5438880" y="4970520"/>
              <a:chExt cx="109440" cy="371520"/>
            </a:xfrm>
          </p:grpSpPr>
          <p:sp>
            <p:nvSpPr>
              <p:cNvPr id="334" name=""/>
              <p:cNvSpPr/>
              <p:nvPr/>
            </p:nvSpPr>
            <p:spPr>
              <a:xfrm>
                <a:off x="5438880" y="49705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38880" y="50446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38880" y="51562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38880" y="51933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38880" y="52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38880" y="5267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38880" y="53049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2096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9360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6624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5810400" y="491328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64360" y="53658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347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349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264040" y="5522760"/>
            <a:ext cx="1882440" cy="708120"/>
            <a:chOff x="2264040" y="5522760"/>
            <a:chExt cx="1882440" cy="708120"/>
          </a:xfrm>
        </p:grpSpPr>
        <p:grpSp>
          <p:nvGrpSpPr>
            <p:cNvPr id="363" name=""/>
            <p:cNvGrpSpPr/>
            <p:nvPr/>
          </p:nvGrpSpPr>
          <p:grpSpPr>
            <a:xfrm>
              <a:off x="2639880" y="5671800"/>
              <a:ext cx="111240" cy="371520"/>
              <a:chOff x="2639880" y="5671800"/>
              <a:chExt cx="111240" cy="371520"/>
            </a:xfrm>
          </p:grpSpPr>
          <p:sp>
            <p:nvSpPr>
              <p:cNvPr id="364" name=""/>
              <p:cNvSpPr/>
              <p:nvPr/>
            </p:nvSpPr>
            <p:spPr>
              <a:xfrm>
                <a:off x="2639880" y="567180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39880" y="57459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9880" y="5857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39880" y="5894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9880" y="5931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9880" y="59691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9880" y="60062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72340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9532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6760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2865240" y="5682960"/>
              <a:ext cx="1281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64040" y="57924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8720" y="552276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4480" y="5987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379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382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23200" y="3645000"/>
            <a:ext cx="1396800" cy="516960"/>
            <a:chOff x="7423200" y="3645000"/>
            <a:chExt cx="1396800" cy="516960"/>
          </a:xfrm>
        </p:grpSpPr>
        <p:grpSp>
          <p:nvGrpSpPr>
            <p:cNvPr id="394" name=""/>
            <p:cNvGrpSpPr/>
            <p:nvPr/>
          </p:nvGrpSpPr>
          <p:grpSpPr>
            <a:xfrm>
              <a:off x="7683480" y="3697200"/>
              <a:ext cx="1136520" cy="464760"/>
              <a:chOff x="7683480" y="3697200"/>
              <a:chExt cx="1136520" cy="4647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7683480" y="3787200"/>
                <a:ext cx="186840" cy="349200"/>
                <a:chOff x="7683480" y="3787200"/>
                <a:chExt cx="186840" cy="349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758000" y="37872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683480" y="399492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758000" y="385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758000" y="39618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745040" y="40140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721280" y="4048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05440" y="408384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716600" y="401400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86360" y="4112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7743240" y="40158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7773480" y="40140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7986960" y="36972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29360" y="385740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746840" y="364500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23200" y="3908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7866000" y="2585880"/>
            <a:ext cx="1098360" cy="501120"/>
            <a:chOff x="7866000" y="2585880"/>
            <a:chExt cx="1098360" cy="501120"/>
          </a:xfrm>
        </p:grpSpPr>
        <p:sp>
          <p:nvSpPr>
            <p:cNvPr id="412" name=""/>
            <p:cNvSpPr/>
            <p:nvPr/>
          </p:nvSpPr>
          <p:spPr>
            <a:xfrm>
              <a:off x="8629920" y="26715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66000" y="2595600"/>
              <a:ext cx="484200" cy="274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Orion II (TBD/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PPM</a:t>
              </a: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)</a:t>
              </a:r>
              <a:br>
                <a:rPr sz="1200"/>
              </a:b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usiness/ Enterpri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MS 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8291520" y="2585880"/>
              <a:ext cx="303120" cy="204840"/>
              <a:chOff x="8291520" y="2585880"/>
              <a:chExt cx="303120" cy="204840"/>
            </a:xfrm>
          </p:grpSpPr>
          <p:sp>
            <p:nvSpPr>
              <p:cNvPr id="415" name=""/>
              <p:cNvSpPr/>
              <p:nvPr/>
            </p:nvSpPr>
            <p:spPr>
              <a:xfrm>
                <a:off x="8291520" y="26906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75400" y="27050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43720" y="2728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23200" y="27543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8337240" y="27050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296200" y="27734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72160" y="27064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8413560" y="27050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58120" y="25858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432640" y="2617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89800" y="2662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998120" y="2949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428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444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9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796040" y="955800"/>
            <a:ext cx="54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843360" y="3149640"/>
            <a:ext cx="2124000" cy="604080"/>
            <a:chOff x="3843360" y="3149640"/>
            <a:chExt cx="2124000" cy="604080"/>
          </a:xfrm>
        </p:grpSpPr>
        <p:sp>
          <p:nvSpPr>
            <p:cNvPr id="462" name=""/>
            <p:cNvSpPr/>
            <p:nvPr/>
          </p:nvSpPr>
          <p:spPr>
            <a:xfrm>
              <a:off x="5548320" y="332748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43360" y="332748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89640" y="31496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78560" y="36100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14800" y="3619440"/>
            <a:ext cx="1851120" cy="734400"/>
            <a:chOff x="4114800" y="3619440"/>
            <a:chExt cx="1851120" cy="734400"/>
          </a:xfrm>
        </p:grpSpPr>
        <p:sp>
          <p:nvSpPr>
            <p:cNvPr id="467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469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13320" y="3619440"/>
              <a:ext cx="12204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1ID: Multimedia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1ID: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75640" y="3002040"/>
            <a:ext cx="1322280" cy="600120"/>
            <a:chOff x="6875640" y="3002040"/>
            <a:chExt cx="1322280" cy="600120"/>
          </a:xfrm>
        </p:grpSpPr>
        <p:sp>
          <p:nvSpPr>
            <p:cNvPr id="485" name=""/>
            <p:cNvSpPr/>
            <p:nvPr/>
          </p:nvSpPr>
          <p:spPr>
            <a:xfrm>
              <a:off x="6875640" y="3335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7108920" y="3002040"/>
              <a:ext cx="1089000" cy="600120"/>
              <a:chOff x="7108920" y="3002040"/>
              <a:chExt cx="1089000" cy="600120"/>
            </a:xfrm>
          </p:grpSpPr>
          <p:sp>
            <p:nvSpPr>
              <p:cNvPr id="487" name=""/>
              <p:cNvSpPr/>
              <p:nvPr/>
            </p:nvSpPr>
            <p:spPr>
              <a:xfrm>
                <a:off x="7358040" y="317016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85040" y="300204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7108920" y="3203640"/>
                <a:ext cx="186840" cy="349200"/>
                <a:chOff x="7108920" y="3203640"/>
                <a:chExt cx="186840" cy="349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183440" y="320364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108920" y="341172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183440" y="327348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183440" y="33782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70480" y="34308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146720" y="34657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30880" y="3500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7142040" y="343080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11800" y="3529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7168680" y="343224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197480" y="343080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7172280" y="30510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4280400" y="4343400"/>
            <a:ext cx="2452320" cy="675720"/>
            <a:chOff x="4280400" y="4343400"/>
            <a:chExt cx="2452320" cy="675720"/>
          </a:xfrm>
        </p:grpSpPr>
        <p:grpSp>
          <p:nvGrpSpPr>
            <p:cNvPr id="503" name=""/>
            <p:cNvGrpSpPr/>
            <p:nvPr/>
          </p:nvGrpSpPr>
          <p:grpSpPr>
            <a:xfrm>
              <a:off x="4633920" y="4483080"/>
              <a:ext cx="186840" cy="349200"/>
              <a:chOff x="4633920" y="4483080"/>
              <a:chExt cx="186840" cy="349200"/>
            </a:xfrm>
          </p:grpSpPr>
          <p:sp>
            <p:nvSpPr>
              <p:cNvPr id="504" name=""/>
              <p:cNvSpPr/>
              <p:nvPr/>
            </p:nvSpPr>
            <p:spPr>
              <a:xfrm>
                <a:off x="4708440" y="448308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33920" y="469116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08440" y="455292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08440" y="4657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95480" y="47102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71720" y="47451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55880" y="47800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667040" y="47102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36800" y="48085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4693680" y="471168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4722480" y="471024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919760" y="441180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80400" y="45705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78280" y="43434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83520" y="48816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1484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09120" y="29304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Siemens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040" y="431496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Siemens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523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526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8000" y="203040"/>
            <a:ext cx="8759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85G Roadmap for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8280720" y="3728520"/>
            <a:ext cx="140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Siemens Sans"/>
              </a:rPr>
              <a:t>No </a:t>
            </a:r>
            <a:r>
              <a:rPr b="1" i="1" lang="en-US" sz="1200" spc="-1" strike="noStrike">
                <a:solidFill>
                  <a:srgbClr val="000000"/>
                </a:solidFill>
                <a:latin typeface="Siemens Sans"/>
              </a:rPr>
              <a:t>price</a:t>
            </a:r>
            <a:r>
              <a:rPr b="1" i="1" lang="de-DE" sz="1200" spc="-1" strike="noStrike">
                <a:solidFill>
                  <a:srgbClr val="000000"/>
                </a:solidFill>
                <a:latin typeface="Siemens San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iemens Sans"/>
              </a:rPr>
              <a:t>indication</a:t>
            </a:r>
            <a:r>
              <a:rPr b="1" i="1" lang="de-DE" sz="1000" spc="-1" strike="noStrike">
                <a:solidFill>
                  <a:srgbClr val="000000"/>
                </a:solidFill>
                <a:latin typeface="Siemens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25520" y="6072120"/>
            <a:ext cx="8175600" cy="426960"/>
            <a:chOff x="425520" y="6072120"/>
            <a:chExt cx="8175600" cy="426960"/>
          </a:xfrm>
        </p:grpSpPr>
        <p:grpSp>
          <p:nvGrpSpPr>
            <p:cNvPr id="544" name=""/>
            <p:cNvGrpSpPr/>
            <p:nvPr/>
          </p:nvGrpSpPr>
          <p:grpSpPr>
            <a:xfrm>
              <a:off x="425520" y="6288120"/>
              <a:ext cx="8175600" cy="210960"/>
              <a:chOff x="425520" y="6288120"/>
              <a:chExt cx="8175600" cy="210960"/>
            </a:xfrm>
          </p:grpSpPr>
          <p:sp>
            <p:nvSpPr>
              <p:cNvPr id="545" name=""/>
              <p:cNvSpPr/>
              <p:nvPr/>
            </p:nvSpPr>
            <p:spPr>
              <a:xfrm>
                <a:off x="425520" y="628812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50200" y="630864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25520" y="6072120"/>
              <a:ext cx="8170200" cy="201600"/>
              <a:chOff x="425520" y="6072120"/>
              <a:chExt cx="8170200" cy="201600"/>
            </a:xfrm>
          </p:grpSpPr>
          <p:sp>
            <p:nvSpPr>
              <p:cNvPr id="548" name=""/>
              <p:cNvSpPr/>
              <p:nvPr/>
            </p:nvSpPr>
            <p:spPr>
              <a:xfrm>
                <a:off x="42552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7140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68920" y="607212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2088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91116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2248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7988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1172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6" name=""/>
          <p:cNvGrpSpPr/>
          <p:nvPr/>
        </p:nvGrpSpPr>
        <p:grpSpPr>
          <a:xfrm>
            <a:off x="422280" y="1228680"/>
            <a:ext cx="8165880" cy="420480"/>
            <a:chOff x="422280" y="1228680"/>
            <a:chExt cx="8165880" cy="420480"/>
          </a:xfrm>
        </p:grpSpPr>
        <p:sp>
          <p:nvSpPr>
            <p:cNvPr id="557" name=""/>
            <p:cNvSpPr/>
            <p:nvPr/>
          </p:nvSpPr>
          <p:spPr>
            <a:xfrm>
              <a:off x="2467080" y="144756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9560" y="144756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2280" y="122868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1780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8160" y="124920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092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13320" y="144756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280" y="144756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0648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7052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45916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502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5788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2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76640" y="524988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67360" y="302256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94000" y="314964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49960" y="314172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95680" y="291636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25640" y="530064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02560" y="31100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633920" y="3902040"/>
            <a:ext cx="186840" cy="349200"/>
            <a:chOff x="4633920" y="3902040"/>
            <a:chExt cx="186840" cy="349200"/>
          </a:xfrm>
        </p:grpSpPr>
        <p:sp>
          <p:nvSpPr>
            <p:cNvPr id="580" name=""/>
            <p:cNvSpPr/>
            <p:nvPr/>
          </p:nvSpPr>
          <p:spPr>
            <a:xfrm>
              <a:off x="4708440" y="39020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33920" y="41101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8440" y="39718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8440" y="4076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95480" y="41292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71720" y="41641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55880" y="41990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4667040" y="41292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36800" y="42274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693680" y="41306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4722480" y="41292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919760" y="3933720"/>
            <a:ext cx="18129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ightingal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74640" y="398952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4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031720" y="4506840"/>
            <a:ext cx="1516680" cy="421200"/>
            <a:chOff x="5031720" y="4506840"/>
            <a:chExt cx="1516680" cy="421200"/>
          </a:xfrm>
        </p:grpSpPr>
        <p:sp>
          <p:nvSpPr>
            <p:cNvPr id="594" name=""/>
            <p:cNvSpPr/>
            <p:nvPr/>
          </p:nvSpPr>
          <p:spPr>
            <a:xfrm>
              <a:off x="5640480" y="4562640"/>
              <a:ext cx="907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ramb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asic im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1720" y="46227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438880" y="4506840"/>
              <a:ext cx="109440" cy="371520"/>
              <a:chOff x="5438880" y="4506840"/>
              <a:chExt cx="109440" cy="371520"/>
            </a:xfrm>
          </p:grpSpPr>
          <p:sp>
            <p:nvSpPr>
              <p:cNvPr id="597" name=""/>
              <p:cNvSpPr/>
              <p:nvPr/>
            </p:nvSpPr>
            <p:spPr>
              <a:xfrm>
                <a:off x="5438880" y="450684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438880" y="45810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38880" y="4692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38880" y="47296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38880" y="47667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38880" y="48042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38880" y="48412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2096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9360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6624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"/>
          <p:cNvSpPr/>
          <p:nvPr/>
        </p:nvSpPr>
        <p:spPr>
          <a:xfrm>
            <a:off x="7254720" y="337176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3294000"/>
            <a:ext cx="136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Swi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</a:t>
            </a:r>
            <a:r>
              <a:rPr b="0" i="1" lang="de-DE" sz="800" spc="-1" strike="noStrike">
                <a:solidFill>
                  <a:srgbClr val="000000"/>
                </a:solidFill>
                <a:latin typeface="Siemens Sans"/>
              </a:rPr>
              <a:t>Minos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Multimedia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21000" y="3398760"/>
            <a:ext cx="303120" cy="204840"/>
            <a:chOff x="4221000" y="3398760"/>
            <a:chExt cx="303120" cy="204840"/>
          </a:xfrm>
        </p:grpSpPr>
        <p:sp>
          <p:nvSpPr>
            <p:cNvPr id="610" name=""/>
            <p:cNvSpPr/>
            <p:nvPr/>
          </p:nvSpPr>
          <p:spPr>
            <a:xfrm>
              <a:off x="4221000" y="350352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04880" y="351792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3200" y="3541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52680" y="356724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266720" y="351792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5680" y="3586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301640" y="351936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343040" y="351792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87600" y="339876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2120" y="343044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19280" y="3475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316560" y="1916280"/>
            <a:ext cx="126360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iemens Sans"/>
              </a:rPr>
              <a:t>Humming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iemens Sans"/>
              </a:rPr>
              <a:t>(Hyd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High-end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63480" y="18939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8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23280" y="40053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4076640"/>
            <a:ext cx="933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8188200" y="3349800"/>
            <a:ext cx="187560" cy="349200"/>
            <a:chOff x="8188200" y="3349800"/>
            <a:chExt cx="187560" cy="349200"/>
          </a:xfrm>
        </p:grpSpPr>
        <p:sp>
          <p:nvSpPr>
            <p:cNvPr id="626" name=""/>
            <p:cNvSpPr/>
            <p:nvPr/>
          </p:nvSpPr>
          <p:spPr>
            <a:xfrm>
              <a:off x="8263080" y="3349800"/>
              <a:ext cx="112680" cy="20952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104">
                  <a:moveTo>
                    <a:pt x="3600" y="0"/>
                  </a:moveTo>
                  <a:arcTo wR="3600" hR="3600" stAng="16200000" swAng="-5400000"/>
                  <a:lnTo>
                    <a:pt x="0" y="36504"/>
                  </a:lnTo>
                  <a:arcTo wR="3600" hR="3600" stAng="10800000" swAng="-5400000"/>
                  <a:lnTo>
                    <a:pt x="18000" y="401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88200" y="3557520"/>
              <a:ext cx="174600" cy="1414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63080" y="341964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63080" y="35244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50120" y="35766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26360" y="361152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10520" y="36464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221320" y="3576600"/>
              <a:ext cx="572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91440" y="367524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248680" y="357840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278920" y="357660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7837200" y="335772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cc0000"/>
                </a:solidFill>
                <a:latin typeface="Siemens Sans"/>
              </a:rPr>
              <a:t>09/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42080" y="3500280"/>
            <a:ext cx="890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Swal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Minos I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NG Theme 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Times New Roman"/>
              </a:rPr>
              <a:t>Stereo loudspea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332000" y="5516640"/>
            <a:ext cx="1468440" cy="376560"/>
            <a:chOff x="1332000" y="5516640"/>
            <a:chExt cx="1468440" cy="376560"/>
          </a:xfrm>
        </p:grpSpPr>
        <p:grpSp>
          <p:nvGrpSpPr>
            <p:cNvPr id="640" name=""/>
            <p:cNvGrpSpPr/>
            <p:nvPr/>
          </p:nvGrpSpPr>
          <p:grpSpPr>
            <a:xfrm>
              <a:off x="2689200" y="5516640"/>
              <a:ext cx="111240" cy="371520"/>
              <a:chOff x="2689200" y="5516640"/>
              <a:chExt cx="111240" cy="371520"/>
            </a:xfrm>
          </p:grpSpPr>
          <p:sp>
            <p:nvSpPr>
              <p:cNvPr id="641" name=""/>
              <p:cNvSpPr/>
              <p:nvPr/>
            </p:nvSpPr>
            <p:spPr>
              <a:xfrm>
                <a:off x="2689200" y="551664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89200" y="5590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89200" y="5702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89200" y="57394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89200" y="5776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689200" y="58140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89200" y="5851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7272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4464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1692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1332000" y="5527800"/>
              <a:ext cx="1280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Entry color M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07600" y="5735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cc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3552840" y="4840200"/>
            <a:ext cx="159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=Adonis D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2160" y="464976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05360" y="3313080"/>
            <a:ext cx="888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03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78280" y="4008600"/>
            <a:ext cx="223560" cy="215640"/>
          </a:xfrm>
          <a:prstGeom prst="flowChartSor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0" y="4008600"/>
            <a:ext cx="82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CHN HW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(TBD) (P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76720" y="387036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42760" y="3102120"/>
            <a:ext cx="1962360" cy="243720"/>
            <a:chOff x="842760" y="3102120"/>
            <a:chExt cx="1962360" cy="243720"/>
          </a:xfrm>
        </p:grpSpPr>
        <p:sp>
          <p:nvSpPr>
            <p:cNvPr id="660" name=""/>
            <p:cNvSpPr/>
            <p:nvPr/>
          </p:nvSpPr>
          <p:spPr>
            <a:xfrm>
              <a:off x="1517760" y="3102120"/>
              <a:ext cx="128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Electra 2Mp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TBD) (PP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42760" y="3192480"/>
              <a:ext cx="27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1220760" y="4221000"/>
            <a:ext cx="303120" cy="204840"/>
            <a:chOff x="1220760" y="4221000"/>
            <a:chExt cx="303120" cy="204840"/>
          </a:xfrm>
        </p:grpSpPr>
        <p:sp>
          <p:nvSpPr>
            <p:cNvPr id="663" name=""/>
            <p:cNvSpPr/>
            <p:nvPr/>
          </p:nvSpPr>
          <p:spPr>
            <a:xfrm>
              <a:off x="1220760" y="43257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04640" y="43401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72960" y="4363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52440" y="43894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266480" y="43401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25440" y="44085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1301400" y="43416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1342800" y="43401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87360" y="42210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61880" y="4252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19040" y="4297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507440" y="1854360"/>
            <a:ext cx="303120" cy="204120"/>
            <a:chOff x="7507440" y="1854360"/>
            <a:chExt cx="303120" cy="204120"/>
          </a:xfrm>
        </p:grpSpPr>
        <p:sp>
          <p:nvSpPr>
            <p:cNvPr id="675" name=""/>
            <p:cNvSpPr/>
            <p:nvPr/>
          </p:nvSpPr>
          <p:spPr>
            <a:xfrm>
              <a:off x="7507440" y="1958760"/>
              <a:ext cx="236520" cy="997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91320" y="19731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59640" y="1996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39120" y="20224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553160" y="1973160"/>
              <a:ext cx="76320" cy="66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12120" y="20415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7588080" y="197460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29480" y="1973160"/>
              <a:ext cx="76320" cy="66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74040" y="1854360"/>
              <a:ext cx="236520" cy="1234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8560" y="1885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05720" y="1930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313080" y="4748040"/>
            <a:ext cx="186840" cy="349200"/>
            <a:chOff x="3313080" y="4748040"/>
            <a:chExt cx="186840" cy="349200"/>
          </a:xfrm>
        </p:grpSpPr>
        <p:sp>
          <p:nvSpPr>
            <p:cNvPr id="687" name=""/>
            <p:cNvSpPr/>
            <p:nvPr/>
          </p:nvSpPr>
          <p:spPr>
            <a:xfrm>
              <a:off x="3387600" y="47480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313080" y="49561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87600" y="48178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87600" y="4922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74640" y="49752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50880" y="50101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35040" y="50450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3346200" y="49752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15960" y="50734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372840" y="49766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3401640" y="49752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217520" y="3116160"/>
            <a:ext cx="187560" cy="349200"/>
            <a:chOff x="1217520" y="3116160"/>
            <a:chExt cx="187560" cy="349200"/>
          </a:xfrm>
        </p:grpSpPr>
        <p:sp>
          <p:nvSpPr>
            <p:cNvPr id="699" name=""/>
            <p:cNvSpPr/>
            <p:nvPr/>
          </p:nvSpPr>
          <p:spPr>
            <a:xfrm>
              <a:off x="1292400" y="3116160"/>
              <a:ext cx="112680" cy="20952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104">
                  <a:moveTo>
                    <a:pt x="3600" y="0"/>
                  </a:moveTo>
                  <a:arcTo wR="3600" hR="3600" stAng="16200000" swAng="-5400000"/>
                  <a:lnTo>
                    <a:pt x="0" y="36504"/>
                  </a:lnTo>
                  <a:arcTo wR="3600" hR="3600" stAng="10800000" swAng="-5400000"/>
                  <a:lnTo>
                    <a:pt x="18000" y="401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217520" y="3324240"/>
              <a:ext cx="17460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92400" y="3186000"/>
              <a:ext cx="1108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92400" y="329076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9440" y="334332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55680" y="33782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39840" y="34131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250640" y="3343320"/>
              <a:ext cx="572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20760" y="34416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278000" y="334476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306080" y="3343320"/>
              <a:ext cx="5724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797360" y="5661000"/>
            <a:ext cx="1143000" cy="412920"/>
            <a:chOff x="4797360" y="5661000"/>
            <a:chExt cx="1143000" cy="412920"/>
          </a:xfrm>
        </p:grpSpPr>
        <p:sp>
          <p:nvSpPr>
            <p:cNvPr id="711" name=""/>
            <p:cNvSpPr/>
            <p:nvPr/>
          </p:nvSpPr>
          <p:spPr>
            <a:xfrm>
              <a:off x="5058720" y="5921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5424480" y="5661000"/>
              <a:ext cx="111240" cy="371520"/>
              <a:chOff x="5424480" y="5661000"/>
              <a:chExt cx="111240" cy="371520"/>
            </a:xfrm>
          </p:grpSpPr>
          <p:sp>
            <p:nvSpPr>
              <p:cNvPr id="713" name=""/>
              <p:cNvSpPr/>
              <p:nvPr/>
            </p:nvSpPr>
            <p:spPr>
              <a:xfrm>
                <a:off x="5424480" y="566100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24480" y="57351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24480" y="5846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24480" y="5883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24480" y="59209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24480" y="5958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24480" y="5995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0800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47992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5220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797360" y="566100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inch DT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(Dodo colo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9685440" y="3932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50920" y="4581360"/>
            <a:ext cx="1512720" cy="401760"/>
            <a:chOff x="250920" y="4581360"/>
            <a:chExt cx="1512720" cy="401760"/>
          </a:xfrm>
        </p:grpSpPr>
        <p:grpSp>
          <p:nvGrpSpPr>
            <p:cNvPr id="726" name=""/>
            <p:cNvGrpSpPr/>
            <p:nvPr/>
          </p:nvGrpSpPr>
          <p:grpSpPr>
            <a:xfrm>
              <a:off x="250920" y="4581360"/>
              <a:ext cx="110880" cy="371520"/>
              <a:chOff x="250920" y="4581360"/>
              <a:chExt cx="110880" cy="371520"/>
            </a:xfrm>
          </p:grpSpPr>
          <p:sp>
            <p:nvSpPr>
              <p:cNvPr id="727" name=""/>
              <p:cNvSpPr/>
              <p:nvPr/>
            </p:nvSpPr>
            <p:spPr>
              <a:xfrm>
                <a:off x="250920" y="458136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0920" y="46555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0920" y="47671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0920" y="48042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0920" y="4841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0920" y="48787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920" y="4915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3408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0636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864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82760" y="486108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8280" y="4702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11280" y="5013360"/>
            <a:ext cx="1496880" cy="409320"/>
            <a:chOff x="611280" y="5013360"/>
            <a:chExt cx="1496880" cy="409320"/>
          </a:xfrm>
        </p:grpSpPr>
        <p:grpSp>
          <p:nvGrpSpPr>
            <p:cNvPr id="740" name=""/>
            <p:cNvGrpSpPr/>
            <p:nvPr/>
          </p:nvGrpSpPr>
          <p:grpSpPr>
            <a:xfrm>
              <a:off x="611280" y="5013360"/>
              <a:ext cx="110880" cy="371520"/>
              <a:chOff x="611280" y="5013360"/>
              <a:chExt cx="110880" cy="37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611280" y="501336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1280" y="50875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1280" y="51991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11280" y="52362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1280" y="5273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1280" y="53107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11280" y="5347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444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6672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900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818640" y="51339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6920" y="530064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216080" y="4592520"/>
            <a:ext cx="1555560" cy="462960"/>
            <a:chOff x="1216080" y="4592520"/>
            <a:chExt cx="1555560" cy="462960"/>
          </a:xfrm>
        </p:grpSpPr>
        <p:grpSp>
          <p:nvGrpSpPr>
            <p:cNvPr id="754" name=""/>
            <p:cNvGrpSpPr/>
            <p:nvPr/>
          </p:nvGrpSpPr>
          <p:grpSpPr>
            <a:xfrm>
              <a:off x="1216080" y="4592520"/>
              <a:ext cx="186840" cy="349200"/>
              <a:chOff x="1216080" y="4592520"/>
              <a:chExt cx="186840" cy="349200"/>
            </a:xfrm>
          </p:grpSpPr>
          <p:sp>
            <p:nvSpPr>
              <p:cNvPr id="755" name=""/>
              <p:cNvSpPr/>
              <p:nvPr/>
            </p:nvSpPr>
            <p:spPr>
              <a:xfrm>
                <a:off x="1290600" y="459252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16080" y="480060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90600" y="466236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90600" y="47671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277640" y="4819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53880" y="48546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38040" y="48895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249200" y="481968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18960" y="49179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1275840" y="482112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1304640" y="481968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490760" y="4811760"/>
              <a:ext cx="1280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Adon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New 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66280" y="4653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008080" y="4149720"/>
            <a:ext cx="1555920" cy="349200"/>
            <a:chOff x="2008080" y="4149720"/>
            <a:chExt cx="1555920" cy="349200"/>
          </a:xfrm>
        </p:grpSpPr>
        <p:grpSp>
          <p:nvGrpSpPr>
            <p:cNvPr id="769" name=""/>
            <p:cNvGrpSpPr/>
            <p:nvPr/>
          </p:nvGrpSpPr>
          <p:grpSpPr>
            <a:xfrm>
              <a:off x="2008080" y="4149720"/>
              <a:ext cx="187560" cy="349200"/>
              <a:chOff x="2008080" y="4149720"/>
              <a:chExt cx="187560" cy="349200"/>
            </a:xfrm>
          </p:grpSpPr>
          <p:sp>
            <p:nvSpPr>
              <p:cNvPr id="770" name=""/>
              <p:cNvSpPr/>
              <p:nvPr/>
            </p:nvSpPr>
            <p:spPr>
              <a:xfrm>
                <a:off x="2082960" y="414972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08080" y="435780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082960" y="4219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082960" y="432432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070000" y="437688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046240" y="44118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030400" y="444672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041200" y="437688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011320" y="4475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2068560" y="437832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096640" y="437688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2282760" y="436896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Adonis II (TFT, MPix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8640" y="42102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63800" y="5084640"/>
            <a:ext cx="1280880" cy="360360"/>
            <a:chOff x="1963800" y="5084640"/>
            <a:chExt cx="1280880" cy="360360"/>
          </a:xfrm>
        </p:grpSpPr>
        <p:grpSp>
          <p:nvGrpSpPr>
            <p:cNvPr id="784" name=""/>
            <p:cNvGrpSpPr/>
            <p:nvPr/>
          </p:nvGrpSpPr>
          <p:grpSpPr>
            <a:xfrm>
              <a:off x="2639880" y="5095800"/>
              <a:ext cx="187560" cy="349200"/>
              <a:chOff x="2639880" y="5095800"/>
              <a:chExt cx="187560" cy="349200"/>
            </a:xfrm>
          </p:grpSpPr>
          <p:sp>
            <p:nvSpPr>
              <p:cNvPr id="785" name=""/>
              <p:cNvSpPr/>
              <p:nvPr/>
            </p:nvSpPr>
            <p:spPr>
              <a:xfrm>
                <a:off x="2714760" y="50958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639880" y="53038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714760" y="51656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714760" y="52704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1800" y="53229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78040" y="53578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62200" y="53928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673000" y="53229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43120" y="54212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2700360" y="53244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28440" y="53229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1963800" y="530064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Leopard EG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14080" y="50846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308400" y="5300640"/>
            <a:ext cx="1465200" cy="371520"/>
            <a:chOff x="3308400" y="5300640"/>
            <a:chExt cx="1465200" cy="371520"/>
          </a:xfrm>
        </p:grpSpPr>
        <p:grpSp>
          <p:nvGrpSpPr>
            <p:cNvPr id="799" name=""/>
            <p:cNvGrpSpPr/>
            <p:nvPr/>
          </p:nvGrpSpPr>
          <p:grpSpPr>
            <a:xfrm>
              <a:off x="3308400" y="5300640"/>
              <a:ext cx="111240" cy="371520"/>
              <a:chOff x="3308400" y="5300640"/>
              <a:chExt cx="111240" cy="371520"/>
            </a:xfrm>
          </p:grpSpPr>
          <p:sp>
            <p:nvSpPr>
              <p:cNvPr id="800" name=""/>
              <p:cNvSpPr/>
              <p:nvPr/>
            </p:nvSpPr>
            <p:spPr>
              <a:xfrm>
                <a:off x="3308400" y="530064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308400" y="5374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308400" y="5486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308400" y="55234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308400" y="5560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08400" y="55980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308400" y="5635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39192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6384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33612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3492360" y="551664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inch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484080" y="53481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4067280" y="5084640"/>
            <a:ext cx="749160" cy="402480"/>
            <a:chOff x="4067280" y="5084640"/>
            <a:chExt cx="749160" cy="402480"/>
          </a:xfrm>
        </p:grpSpPr>
        <p:grpSp>
          <p:nvGrpSpPr>
            <p:cNvPr id="813" name=""/>
            <p:cNvGrpSpPr/>
            <p:nvPr/>
          </p:nvGrpSpPr>
          <p:grpSpPr>
            <a:xfrm>
              <a:off x="4067280" y="5084640"/>
              <a:ext cx="110880" cy="371520"/>
              <a:chOff x="4067280" y="5084640"/>
              <a:chExt cx="110880" cy="371520"/>
            </a:xfrm>
          </p:grpSpPr>
          <p:sp>
            <p:nvSpPr>
              <p:cNvPr id="814" name=""/>
              <p:cNvSpPr/>
              <p:nvPr/>
            </p:nvSpPr>
            <p:spPr>
              <a:xfrm>
                <a:off x="4067280" y="508464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67280" y="5158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67280" y="52704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067280" y="53074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067280" y="5344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067280" y="53820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067280" y="5419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5044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2272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9500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4299120" y="5243400"/>
              <a:ext cx="51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g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74640" y="50846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754440" y="5614920"/>
            <a:ext cx="1393920" cy="406440"/>
            <a:chOff x="3754440" y="5614920"/>
            <a:chExt cx="1393920" cy="406440"/>
          </a:xfrm>
        </p:grpSpPr>
        <p:sp>
          <p:nvSpPr>
            <p:cNvPr id="827" name=""/>
            <p:cNvSpPr/>
            <p:nvPr/>
          </p:nvSpPr>
          <p:spPr>
            <a:xfrm>
              <a:off x="3780000" y="5899320"/>
              <a:ext cx="136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829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770440" y="5614920"/>
            <a:ext cx="1393920" cy="406440"/>
            <a:chOff x="5770440" y="5614920"/>
            <a:chExt cx="1393920" cy="406440"/>
          </a:xfrm>
        </p:grpSpPr>
        <p:sp>
          <p:nvSpPr>
            <p:cNvPr id="842" name=""/>
            <p:cNvSpPr/>
            <p:nvPr/>
          </p:nvSpPr>
          <p:spPr>
            <a:xfrm>
              <a:off x="5796000" y="5899320"/>
              <a:ext cx="136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6083280" y="5614920"/>
              <a:ext cx="303120" cy="204840"/>
              <a:chOff x="6083280" y="5614920"/>
              <a:chExt cx="303120" cy="204840"/>
            </a:xfrm>
          </p:grpSpPr>
          <p:sp>
            <p:nvSpPr>
              <p:cNvPr id="844" name=""/>
              <p:cNvSpPr/>
              <p:nvPr/>
            </p:nvSpPr>
            <p:spPr>
              <a:xfrm>
                <a:off x="6083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67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35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114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129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087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163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205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49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224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81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577044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518160" y="4078440"/>
            <a:ext cx="1054080" cy="287280"/>
            <a:chOff x="6518160" y="4078440"/>
            <a:chExt cx="1054080" cy="287280"/>
          </a:xfrm>
        </p:grpSpPr>
        <p:sp>
          <p:nvSpPr>
            <p:cNvPr id="857" name=""/>
            <p:cNvSpPr/>
            <p:nvPr/>
          </p:nvSpPr>
          <p:spPr>
            <a:xfrm>
              <a:off x="6941520" y="42130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18160" y="4078440"/>
              <a:ext cx="93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7269120" y="4149720"/>
              <a:ext cx="303120" cy="204840"/>
              <a:chOff x="7269120" y="4149720"/>
              <a:chExt cx="303120" cy="204840"/>
            </a:xfrm>
          </p:grpSpPr>
          <p:sp>
            <p:nvSpPr>
              <p:cNvPr id="860" name=""/>
              <p:cNvSpPr/>
              <p:nvPr/>
            </p:nvSpPr>
            <p:spPr>
              <a:xfrm>
                <a:off x="7269120" y="42544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53000" y="42688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321320" y="42926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00800" y="431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314840" y="42688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73800" y="4337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7349760" y="42703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391160" y="42688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35720" y="41497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410240" y="41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67400" y="4226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5376960" y="4951440"/>
            <a:ext cx="1869840" cy="422640"/>
            <a:chOff x="5376960" y="4951440"/>
            <a:chExt cx="1869840" cy="422640"/>
          </a:xfrm>
        </p:grpSpPr>
        <p:sp>
          <p:nvSpPr>
            <p:cNvPr id="872" name=""/>
            <p:cNvSpPr/>
            <p:nvPr/>
          </p:nvSpPr>
          <p:spPr>
            <a:xfrm>
              <a:off x="5651640" y="5084640"/>
              <a:ext cx="159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Siskin ID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51640" y="52214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cc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376960" y="4951440"/>
              <a:ext cx="186840" cy="349200"/>
              <a:chOff x="5376960" y="4951440"/>
              <a:chExt cx="186840" cy="349200"/>
            </a:xfrm>
          </p:grpSpPr>
          <p:sp>
            <p:nvSpPr>
              <p:cNvPr id="875" name=""/>
              <p:cNvSpPr/>
              <p:nvPr/>
            </p:nvSpPr>
            <p:spPr>
              <a:xfrm>
                <a:off x="5451480" y="49514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76960" y="51595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51480" y="50212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51480" y="5126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38520" y="51786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414760" y="52135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398920" y="52484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5410080" y="51786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379840" y="52768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436720" y="5180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5465520" y="51786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5555160" y="4437000"/>
            <a:ext cx="103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0000"/>
                </a:solidFill>
                <a:latin typeface="Arial"/>
              </a:rPr>
              <a:t>Launch price 89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Jürgen Schmitz</cp:lastModifiedBy>
  <dcterms:modified xsi:type="dcterms:W3CDTF">2004-11-30T15:07:49Z</dcterms:modified>
  <cp:revision>67</cp:revision>
  <dc:subject/>
  <dc:title>PowerPoint-Präsentation</dc:title>
</cp:coreProperties>
</file>